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AE5-1B51-412B-A0DA-8B4210CE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E24-C0E6-43E9-AE90-B2344A5E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BA2-E4E1-44DF-AE6B-70FAD724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4FA-1655-4133-B813-A3CC7825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53C4-4713-4B22-A2A5-2BC21A50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493E-F5FB-40AD-BB7E-247DB709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8DAF-B77A-4732-9B2D-AFADBFD5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8D00-2C09-444A-B0EF-7513D745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F857-F437-429E-A8FE-FD44F895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12E6-267E-4341-BA24-844E266D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354F-A3CF-458A-95B9-FB6861AD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3ED-EB3B-45A1-9617-D5ECE094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3D29-9630-407D-9F70-C39BC2FE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DB94-86F6-432E-B58A-B432ACB6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04F8-14FD-457E-83BF-CB9EC25E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92A7-8D05-4743-A27B-4BF97FAF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59A1-0B45-4FF5-8423-FC5FABE5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886-22AB-43C5-B87E-170A8411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00D-AE75-4FD2-9742-71670BDD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513-A9BD-4C1B-B3BD-77D85C50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DE9-F481-4423-9991-EDDDF4BE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DBE-DECD-41CE-8D23-4C1E5E26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3DA-0940-44EC-9185-7FB0B1A9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876-747E-4242-B222-78CBA5B8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7A77-9B7C-495F-A1DD-3FE8589FEB2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B478-9943-4C92-AE56-873025D7669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140480"/>
            <a:ext cx="6476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    </a:t>
            </a:r>
            <a:r>
              <a:rPr b="1" lang="es-ES_tradnl" sz="4400" spc="-1" strike="noStrike" u="sng">
                <a:solidFill>
                  <a:srgbClr val="ccffff"/>
                </a:solidFill>
                <a:uFillTx/>
                <a:latin typeface="Arial Black"/>
              </a:rPr>
              <a:t>Las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2361960"/>
            <a:ext cx="3857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Las plantas necesitan agua, luz, aire y sales mineral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cobreenlasplantas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43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b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s partes de una planta.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28440" y="289512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tallolargo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21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1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TIPOS DE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71080" y="3123720"/>
            <a:ext cx="782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Árboles       Arbustos      Planta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9" name="arbol" descr=""/>
          <p:cNvPicPr/>
          <p:nvPr/>
        </p:nvPicPr>
        <p:blipFill>
          <a:blip r:embed="rId1"/>
          <a:stretch/>
        </p:blipFill>
        <p:spPr>
          <a:xfrm>
            <a:off x="838080" y="3911760"/>
            <a:ext cx="2362320" cy="2725560"/>
          </a:xfrm>
          <a:prstGeom prst="rect">
            <a:avLst/>
          </a:prstGeom>
          <a:ln w="0">
            <a:noFill/>
          </a:ln>
        </p:spPr>
      </p:pic>
      <p:pic>
        <p:nvPicPr>
          <p:cNvPr id="140" name="Arbustos-Viburnum-2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2522520" cy="2603520"/>
          </a:xfrm>
          <a:prstGeom prst="rect">
            <a:avLst/>
          </a:prstGeom>
          <a:ln w="0">
            <a:noFill/>
          </a:ln>
        </p:spPr>
      </p:pic>
      <p:pic>
        <p:nvPicPr>
          <p:cNvPr id="141" name="planta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2143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6:48:30Z</dcterms:created>
  <dc:creator>USUARIO</dc:creator>
  <dc:description/>
  <dc:language>en-US</dc:language>
  <cp:lastModifiedBy>USUARIO</cp:lastModifiedBy>
  <dcterms:modified xsi:type="dcterms:W3CDTF">2012-02-09T17:18:26Z</dcterms:modified>
  <cp:revision>1</cp:revision>
  <dc:subject/>
  <dc:title>     Las plantas</dc:title>
</cp:coreProperties>
</file>