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CA1-6B0A-45FC-B931-3D6AC86E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BD2-3025-4728-8FFD-145E323D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1E8-A401-404D-BFC9-0DC60A01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229-1DCA-412C-9A17-D6C6AB4F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AE16-526E-469B-A5A8-E9BA5060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B659-C585-4DBB-8ED3-1BCAF678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291F-FA07-4EE0-8041-D51C6F09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836C-8989-4AFF-B9D7-517CC6D4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F25E-B002-417D-8E19-82646BA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605C-9DB7-46E9-92D3-7A57AFD8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68A5-7933-4264-A9A1-85F70675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635-134A-4683-A752-0C279CBB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D8FB-CA90-4EC7-AF17-C5E9AD1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D9CC-5A43-4C68-8CDB-A268A7D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74AA-4E5E-4C15-BE04-8A5071C2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7DF7-2E87-4708-9A48-3FDD6AB0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DBCD-0F2F-4FA1-B8E8-52E7CC56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94F-09A5-4DE3-8BCA-D645964E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8BA-AD76-432E-82C5-93FC3AA7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4D9-6788-4A02-98A2-D7F3E28D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2F1-BA2B-4D68-832F-EE6CB248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D6D-542F-44D7-88C2-4E830788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40A-0BFA-4E68-B93A-AACC03E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B99-CEA3-424D-A12B-64D9E526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F129-2AE8-4383-B598-E7111FAD469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69A1-2BF3-46DC-9C44-30FF21FF40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140480"/>
            <a:ext cx="6476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    </a:t>
            </a:r>
            <a:r>
              <a:rPr b="1" lang="es-ES_tradnl" sz="4400" spc="-1" strike="noStrike" u="sng">
                <a:solidFill>
                  <a:srgbClr val="ccffff"/>
                </a:solidFill>
                <a:uFillTx/>
                <a:latin typeface="Arial Black"/>
              </a:rPr>
              <a:t>Las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2361960"/>
            <a:ext cx="3857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Las plantas necesitan agua, luz, aire y sales mineral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cobreenlasplantas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b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s partes de una planta.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28440" y="2895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tallolargo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21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1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TIPOS DE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71080" y="3123720"/>
            <a:ext cx="782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Árboles       Arbustos      Planta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9" name="arbol" descr=""/>
          <p:cNvPicPr/>
          <p:nvPr/>
        </p:nvPicPr>
        <p:blipFill>
          <a:blip r:embed="rId1"/>
          <a:stretch/>
        </p:blipFill>
        <p:spPr>
          <a:xfrm>
            <a:off x="838080" y="3911760"/>
            <a:ext cx="2362320" cy="2725560"/>
          </a:xfrm>
          <a:prstGeom prst="rect">
            <a:avLst/>
          </a:prstGeom>
          <a:ln w="0">
            <a:noFill/>
          </a:ln>
        </p:spPr>
      </p:pic>
      <p:pic>
        <p:nvPicPr>
          <p:cNvPr id="140" name="Arbustos-Viburnum-2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2522520" cy="2603520"/>
          </a:xfrm>
          <a:prstGeom prst="rect">
            <a:avLst/>
          </a:prstGeom>
          <a:ln w="0">
            <a:noFill/>
          </a:ln>
        </p:spPr>
      </p:pic>
      <p:pic>
        <p:nvPicPr>
          <p:cNvPr id="141" name="planta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2143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6:48:30Z</dcterms:created>
  <dc:creator>USUARIO</dc:creator>
  <dc:description/>
  <dc:language>en-US</dc:language>
  <cp:lastModifiedBy>USUARIO</cp:lastModifiedBy>
  <dcterms:modified xsi:type="dcterms:W3CDTF">2012-02-09T17:18:26Z</dcterms:modified>
  <cp:revision>1</cp:revision>
  <dc:subject/>
  <dc:title>     Las plantas</dc:title>
</cp:coreProperties>
</file>