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A99-A666-4B06-9524-51549763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029-8533-45FE-8CE1-7D78D28A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601-72B5-4E56-A043-1B22EC8F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F46-E97B-4ED1-9A2A-64E1F4C8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0249-8F58-4E49-8EFB-AFB83BD8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F00A-CD48-40F3-9B08-9B91AA80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6FF-E0CA-41F1-9777-90C2D2F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B49-B954-4238-94F5-E7F86A95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9DB1-A2C4-4DA0-B6CA-6D932A1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25D-9F26-4F3D-9F85-19323EFF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566-7A67-4A57-B747-5C50B0F2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1A4-ACDE-4907-971D-D5C8A9A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C63-F8D2-417E-8EB2-723A86C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4239-2764-4DEA-B886-4FEC9944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363A-BD41-41BC-87EC-8ECA225B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6B48-6E6A-4B0A-B5CE-0FCA1C11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7E5-F455-4F78-A84D-F8C5636C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B27-6898-4798-951E-E365247D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0E6-6243-4D7B-ABF4-7927E54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EEA-1AEA-4B84-BB19-57561C45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472-00AA-4470-89A0-6FDC8FD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2D4-9873-4FE2-B186-4869486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B00-D9B6-49D8-A251-C24DA0F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C1C-FA26-442F-B833-67A7E70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08DD-88AC-486D-818B-FFF7EDC0C45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E18-A9F5-4AB0-B3B8-4A4F681F9E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1404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  </a:t>
            </a:r>
            <a:r>
              <a:rPr b="1" lang="es-ES_tradnl" sz="4400" spc="-1" strike="noStrike" u="sng">
                <a:solidFill>
                  <a:srgbClr val="ccffff"/>
                </a:solidFill>
                <a:uFillTx/>
                <a:latin typeface="Arial Black"/>
              </a:rPr>
              <a:t>Las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2361960"/>
            <a:ext cx="3857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Las plantas necesitan agua, luz, aire y sales miner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cobreenlasplantas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s partes de una planta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95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tallolargo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1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1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TIPOS DE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82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Árboles       Arbustos      Planta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arbol" descr=""/>
          <p:cNvPicPr/>
          <p:nvPr/>
        </p:nvPicPr>
        <p:blipFill>
          <a:blip r:embed="rId1"/>
          <a:stretch/>
        </p:blipFill>
        <p:spPr>
          <a:xfrm>
            <a:off x="838080" y="3911760"/>
            <a:ext cx="2362320" cy="2725560"/>
          </a:xfrm>
          <a:prstGeom prst="rect">
            <a:avLst/>
          </a:prstGeom>
          <a:ln w="0">
            <a:noFill/>
          </a:ln>
        </p:spPr>
      </p:pic>
      <p:pic>
        <p:nvPicPr>
          <p:cNvPr id="140" name="Arbustos-Viburnum-2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522520" cy="2603520"/>
          </a:xfrm>
          <a:prstGeom prst="rect">
            <a:avLst/>
          </a:prstGeom>
          <a:ln w="0">
            <a:noFill/>
          </a:ln>
        </p:spPr>
      </p:pic>
      <p:pic>
        <p:nvPicPr>
          <p:cNvPr id="141" name="planta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143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48:30Z</dcterms:created>
  <dc:creator>USUARIO</dc:creator>
  <dc:description/>
  <dc:language>en-US</dc:language>
  <cp:lastModifiedBy>USUARIO</cp:lastModifiedBy>
  <dcterms:modified xsi:type="dcterms:W3CDTF">2012-02-09T17:18:26Z</dcterms:modified>
  <cp:revision>1</cp:revision>
  <dc:subject/>
  <dc:title>     Las plantas</dc:title>
</cp:coreProperties>
</file>