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5C0-F159-4B47-8565-089CEE84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A54-460C-4EB0-9540-C7DEEBF9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ABE-38EB-49F7-885C-DCED0D05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540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972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144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540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972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A65-F0C9-44B8-A6F8-43F9B441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6CC4-41DD-45A5-BBF5-BCA782EE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8D03-635F-4D97-A035-3E6C4B66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3E12-7F3C-41A4-BE10-62CFFDA0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81FE-8AB5-494C-BC82-E6DC6E92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1E1F-B770-4DE2-A634-EE3A6B86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4160" y="54144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5B2A-52D5-491E-82A4-7E337697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387B-DD6F-4BB3-A55D-3883F0B6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198-90A0-4802-9A48-E18EA6F5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4AAB-F851-4B74-8BA1-2B4400B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D1EF-B7DD-429E-9187-12911FB0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5028-344A-47D4-BC7C-B15CA391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FA8C-97C8-4120-AC99-98866606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540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49972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7144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3540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49972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5DD8-4B70-4B39-9D2E-B7959597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60C-4000-4467-A4B9-69B7EB06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252-DFAD-4D31-B2C4-246EF5E1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4EE-6325-42C0-B3B9-CC5DA2A6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54160" y="54144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CCE-85B9-4D0B-953A-B339BA8D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93C-918C-4932-820E-317201F0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FBD-F662-49D7-B74B-C9043547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C15-E4E7-467A-96B1-07892F5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05B9-81AD-40F1-BAC9-D0DC189BAB0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51CD-5EB1-49C3-9850-586261A769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1140480"/>
            <a:ext cx="6476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     </a:t>
            </a:r>
            <a:r>
              <a:rPr b="1" lang="es-ES_tradnl" sz="4400" spc="-1" strike="noStrike" u="sng">
                <a:solidFill>
                  <a:srgbClr val="ccffff"/>
                </a:solidFill>
                <a:uFillTx/>
                <a:latin typeface="Arial Black"/>
              </a:rPr>
              <a:t>Las planta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2361960"/>
            <a:ext cx="3857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Las plantas necesitan agua, luz, aire y sales mineral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cobreenlasplantas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43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b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s partes de una planta.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828440" y="289512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tallolargo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721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1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TIPOS DE PLANTA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71080" y="3123720"/>
            <a:ext cx="782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Árboles       Arbustos      Planta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9" name="arbol" descr=""/>
          <p:cNvPicPr/>
          <p:nvPr/>
        </p:nvPicPr>
        <p:blipFill>
          <a:blip r:embed="rId1"/>
          <a:stretch/>
        </p:blipFill>
        <p:spPr>
          <a:xfrm>
            <a:off x="838080" y="3911760"/>
            <a:ext cx="2362320" cy="2725560"/>
          </a:xfrm>
          <a:prstGeom prst="rect">
            <a:avLst/>
          </a:prstGeom>
          <a:ln w="0">
            <a:noFill/>
          </a:ln>
        </p:spPr>
      </p:pic>
      <p:pic>
        <p:nvPicPr>
          <p:cNvPr id="140" name="Arbustos-Viburnum-2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2522520" cy="2603520"/>
          </a:xfrm>
          <a:prstGeom prst="rect">
            <a:avLst/>
          </a:prstGeom>
          <a:ln w="0">
            <a:noFill/>
          </a:ln>
        </p:spPr>
      </p:pic>
      <p:pic>
        <p:nvPicPr>
          <p:cNvPr id="141" name="planta" descr=""/>
          <p:cNvPicPr/>
          <p:nvPr/>
        </p:nvPicPr>
        <p:blipFill>
          <a:blip r:embed="rId3"/>
          <a:stretch/>
        </p:blipFill>
        <p:spPr>
          <a:xfrm>
            <a:off x="6629400" y="3962520"/>
            <a:ext cx="2143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6:48:30Z</dcterms:created>
  <dc:creator>USUARIO</dc:creator>
  <dc:description/>
  <dc:language>en-US</dc:language>
  <cp:lastModifiedBy>USUARIO</cp:lastModifiedBy>
  <dcterms:modified xsi:type="dcterms:W3CDTF">2012-02-09T17:18:26Z</dcterms:modified>
  <cp:revision>1</cp:revision>
  <dc:subject/>
  <dc:title>     Las plantas</dc:title>
</cp:coreProperties>
</file>