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B50-BF6C-4732-B2D9-66B37118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412-BA48-44A8-91AD-49FC9F68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805-E895-4461-9CC7-86FE1151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540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972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144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540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972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791-CDAB-4DC4-A4AB-5D7036C6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F721-158D-48D4-B22A-8851371E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1574-60D4-488D-84A7-601C61D2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79CE-F0D7-40A4-A2D7-59CCE77D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24C3-606B-45E3-B5EA-3275EDB5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88D8-6E33-4D9B-A796-F9B702B1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4160" y="54144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FE62-6057-4B59-B482-7C57DE50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FCFE-8A81-4790-BEBC-3C2D367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194-94B0-4526-BFF2-C548F4B6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724B-CB02-4719-8689-741A3925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98D0-316C-4171-ADF2-57556979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5437-CD80-4C94-A45B-E3A08FB5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7A4E-2BF3-4F6B-A3DF-041A0147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540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49972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7144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3540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49972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6467-E994-480B-A524-67E00AAE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367-8B0A-441D-9C80-20C6DD75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5DE-5D96-46BD-8A36-AC70DFEA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3C7-2869-463A-815F-C01FA09E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54160" y="54144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6CD-AC91-4225-928C-79501533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A57-21D4-412F-AE17-5B178354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698-4CCA-4109-B961-15DEC509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0FB-411B-473B-A355-AE85388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2EDC-B161-4336-B2E3-2D7A2A0E31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A4E1-44A3-4F58-BB68-18D74B3E589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1140480"/>
            <a:ext cx="6476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     </a:t>
            </a:r>
            <a:r>
              <a:rPr b="1" lang="es-ES_tradnl" sz="4400" spc="-1" strike="noStrike" u="sng">
                <a:solidFill>
                  <a:srgbClr val="ccffff"/>
                </a:solidFill>
                <a:uFillTx/>
                <a:latin typeface="Arial Black"/>
              </a:rPr>
              <a:t>Las planta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2361960"/>
            <a:ext cx="3857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Las plantas necesitan agua, luz, aire y sales mineral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cobreenlasplantas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43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b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s partes de una planta.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828440" y="289512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tallolargo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721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1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TIPOS DE PLANTA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71080" y="3123720"/>
            <a:ext cx="782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Árboles       Arbustos      Planta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9" name="arbol" descr=""/>
          <p:cNvPicPr/>
          <p:nvPr/>
        </p:nvPicPr>
        <p:blipFill>
          <a:blip r:embed="rId1"/>
          <a:stretch/>
        </p:blipFill>
        <p:spPr>
          <a:xfrm>
            <a:off x="838080" y="3911760"/>
            <a:ext cx="2362320" cy="2725560"/>
          </a:xfrm>
          <a:prstGeom prst="rect">
            <a:avLst/>
          </a:prstGeom>
          <a:ln w="0">
            <a:noFill/>
          </a:ln>
        </p:spPr>
      </p:pic>
      <p:pic>
        <p:nvPicPr>
          <p:cNvPr id="140" name="Arbustos-Viburnum-2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2522520" cy="2603520"/>
          </a:xfrm>
          <a:prstGeom prst="rect">
            <a:avLst/>
          </a:prstGeom>
          <a:ln w="0">
            <a:noFill/>
          </a:ln>
        </p:spPr>
      </p:pic>
      <p:pic>
        <p:nvPicPr>
          <p:cNvPr id="141" name="planta" descr=""/>
          <p:cNvPicPr/>
          <p:nvPr/>
        </p:nvPicPr>
        <p:blipFill>
          <a:blip r:embed="rId3"/>
          <a:stretch/>
        </p:blipFill>
        <p:spPr>
          <a:xfrm>
            <a:off x="6629400" y="3962520"/>
            <a:ext cx="2143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6:48:30Z</dcterms:created>
  <dc:creator>USUARIO</dc:creator>
  <dc:description/>
  <dc:language>en-US</dc:language>
  <cp:lastModifiedBy>USUARIO</cp:lastModifiedBy>
  <dcterms:modified xsi:type="dcterms:W3CDTF">2012-02-09T17:18:26Z</dcterms:modified>
  <cp:revision>1</cp:revision>
  <dc:subject/>
  <dc:title>     Las plantas</dc:title>
</cp:coreProperties>
</file>