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3F5-F23C-4A6D-AEFA-D92CD89B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734-015B-40FE-AE74-966B989A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858-A06C-483D-9CF1-57DBAAD0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3540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9972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144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3540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49972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9EF-2C01-442F-91DB-87112430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FACB-AA26-4A4C-8574-D5AFFF40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F4AF-8AA9-4E8D-90BA-F1918E80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8B31-B588-4AF4-860C-7BA66799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6193-2D78-4E71-BED4-08CCA5CD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9897-59E5-43A2-BD3A-666E1315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54160" y="54144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F83D-09E9-48FC-A5C9-2662092A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09B1-11E4-40B8-8FAB-966DED96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A5C-7A92-4294-85E6-F647BE2B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558E-71DC-424E-BFE8-36819F9B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6369-9D71-4CC2-91F5-5C3DF449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5BB3-5D4E-41C7-BE3B-3F18F19F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2B70-39D9-41E2-AAB8-F7799F44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3540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499720" y="3123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7144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3540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499720" y="4039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54E0-D809-46DD-A8FF-817E4EA7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183-3E2F-4434-905E-0E1FBED3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519-A459-4FD3-BB0F-567F35EB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E53-7D65-4469-B676-C05271B1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54160" y="54144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91B-4446-4F58-97D4-58D1C5AE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D5F-1DAE-41D7-B925-71E1C919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51400" y="4039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906-237F-44B3-B53B-9396A7A8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144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51400" y="3123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1440" y="4039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3FB-FD05-490A-B397-E75E4FA2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2E5A-F8C7-4164-8204-2250FFFE6E8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93EA-B772-405A-A0D5-809201BD525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1140480"/>
            <a:ext cx="6476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     </a:t>
            </a:r>
            <a:r>
              <a:rPr b="1" lang="es-ES_tradnl" sz="4400" spc="-1" strike="noStrike" u="sng">
                <a:solidFill>
                  <a:srgbClr val="ccffff"/>
                </a:solidFill>
                <a:uFillTx/>
                <a:latin typeface="Arial Black"/>
              </a:rPr>
              <a:t>Las planta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2361960"/>
            <a:ext cx="3857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Las plantas necesitan agua, luz, aire y sales minerale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cobreenlasplantas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438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b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Las partes de una planta.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828440" y="289512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tallolargo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721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11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</a:rPr>
              <a:t>TIPOS DE PLANTA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71080" y="3123720"/>
            <a:ext cx="782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Árboles       Arbustos      Planta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9" name="arbol" descr=""/>
          <p:cNvPicPr/>
          <p:nvPr/>
        </p:nvPicPr>
        <p:blipFill>
          <a:blip r:embed="rId1"/>
          <a:stretch/>
        </p:blipFill>
        <p:spPr>
          <a:xfrm>
            <a:off x="838080" y="3911760"/>
            <a:ext cx="2362320" cy="2725560"/>
          </a:xfrm>
          <a:prstGeom prst="rect">
            <a:avLst/>
          </a:prstGeom>
          <a:ln w="0">
            <a:noFill/>
          </a:ln>
        </p:spPr>
      </p:pic>
      <p:pic>
        <p:nvPicPr>
          <p:cNvPr id="140" name="Arbustos-Viburnum-2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2522520" cy="2603520"/>
          </a:xfrm>
          <a:prstGeom prst="rect">
            <a:avLst/>
          </a:prstGeom>
          <a:ln w="0">
            <a:noFill/>
          </a:ln>
        </p:spPr>
      </p:pic>
      <p:pic>
        <p:nvPicPr>
          <p:cNvPr id="141" name="planta" descr=""/>
          <p:cNvPicPr/>
          <p:nvPr/>
        </p:nvPicPr>
        <p:blipFill>
          <a:blip r:embed="rId3"/>
          <a:stretch/>
        </p:blipFill>
        <p:spPr>
          <a:xfrm>
            <a:off x="6629400" y="3962520"/>
            <a:ext cx="2143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6:48:30Z</dcterms:created>
  <dc:creator>USUARIO</dc:creator>
  <dc:description/>
  <dc:language>en-US</dc:language>
  <cp:lastModifiedBy>USUARIO</cp:lastModifiedBy>
  <dcterms:modified xsi:type="dcterms:W3CDTF">2012-02-09T17:18:26Z</dcterms:modified>
  <cp:revision>1</cp:revision>
  <dc:subject/>
  <dc:title>     Las plantas</dc:title>
</cp:coreProperties>
</file>